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wmf" ContentType="image/x-wmf"/>
  <Override PartName="/ppt/media/image18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91EB-841C-4DE9-9523-B64569BFACD1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914B-1BDF-49FA-835B-F812D806C46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413D-752C-4368-971F-97FA1D11DBD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D962-3101-4A18-9E37-3E4044E0B4E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4BA8-C68D-489A-B9DC-166C5E7E1B8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12F1-DE94-4E69-9052-462A51E9069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1159-9E8F-4686-B8F4-1FE24C0DAA6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D61E-2A9E-4E4D-95A3-57B34216B97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F3DA-CEB1-47A7-8A93-B198C76E86C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D9C6-F8F5-428F-BD87-9F940A06AD5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2A27-1837-416F-9EE7-855254892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838D-0435-44D4-9840-EA886FB81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90BB-D938-47ED-A6E4-B8522B706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DDDB-4FA4-4FC6-8DC3-2FDB637476A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8D62-74F5-4A43-B51C-A06220BDBB9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1A6A-BA14-4ABA-B55A-D225E3B5D23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07D7-3BE6-4F89-8FCF-21417D8C4B0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59AC-0849-4F29-8CD7-7895E3E96CB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8DC0-E511-47E3-85AA-158D06AEBAD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0017-67A0-4859-9CB4-97D4E89E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2199-D59F-4EBF-A40E-A5ABE087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E365-1117-41CA-ACC7-B65D2FA4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CA7A-F759-4CFC-9F62-5A90CB0C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3AD7-6422-40F8-A456-8D7FE4BA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3ED6-0930-49B0-B436-FB854330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EBBD-EE26-4AAB-AA52-921AFFEB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A01D-8EEE-4CFC-8BDD-322C26D7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33B6-39DA-4C85-BB6E-B4E6A911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F0D5-7441-4DA8-A693-100305E0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34F7-38F1-46CA-8BBA-84A32445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AA1B-0BE9-4826-AB3D-5EBBDD89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50C1-4329-46ED-9846-1BDBDFE0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B02D-8D77-49A2-BE89-6F45CFA0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17E6-57D4-4931-9A27-DA5D72CF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60DC-DBBE-4B12-86B5-2DE8A6B7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E584-EF2B-4F3A-A9EC-DCAB9889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F86E-503B-48A9-8FF8-AAB2884F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D077-D031-4E4B-9388-9E010341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57E1-025E-4B52-9413-D2E3056B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3F18-366F-4567-98FE-09087609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5080-2758-4855-B56D-E1878E8D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9E57-7700-4C24-9B69-B0861BB2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48D4-B3CF-4A82-8380-64BBB470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95C6-15CB-4294-9334-6117205B386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2ECD-9479-452A-B77F-B5FF92A9993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va.gov.lv/karjera/testi/lv/selfcheck_b/test/new_test/" TargetMode="External"/><Relationship Id="rId2" Type="http://schemas.openxmlformats.org/officeDocument/2006/relationships/hyperlink" Target="http://www.niid.lv/tests/testi/tests4_1.php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METODIKAS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ašnoteicējs jauniešiem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odarbinātības valsts aģentūras mājas lapas sadaļā „Karjeras pakalpojum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va.gov.lv/karjera/testi/lv/selfcheck_b/test/new_test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ersonības tests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acionālās izglītības iespēju datubāzes sadaļā „Karjeras izvēles test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iid.lv/tests/testi/tests4_1.php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7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rutīnveida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or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8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55736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21:25Z</dcterms:modified>
  <cp:revision>340</cp:revision>
  <dc:subject/>
  <dc:title>Slide 1</dc:title>
</cp:coreProperties>
</file>